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9B78-00E0-45D5-AC0A-0BCF3B92E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2134-9887-4AC8-81C8-00506738C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65E0-1617-4423-A712-965463D62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6BC1-5E74-4A1E-808C-FE5F7441C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B2B4D-4088-49CC-AF19-F676CC673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659F1-6B71-4019-93DD-D17A723E6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2A999-B224-48B7-80D6-DD8D20167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8DA4F-AEA1-48FC-97DF-0E12E62D6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7872C-1E00-452F-9C05-53504C491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07B03-A795-4C94-B29D-DF8C550B7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B6DF8-F835-4147-9FE8-5B03B40B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F14D-4D0B-4209-AD66-7211519CD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796A9-5FEA-42B1-A070-B2ACE0D3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AF6FA-EDA2-4A5B-A481-6A07B26C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19BAB-5146-4F63-BF5C-471FD4F19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D1436-17FB-4816-8C25-5FC0EC585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8919F-1BFE-4DBC-BD18-E642DF3E9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5883D-27A9-4489-86C9-650A86711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1B463-514D-4CAA-8514-196088FC3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D7FEF-D31E-4AEC-AD30-BDE7B0BDE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B8C61-5113-47D1-81AE-A8263CEDF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05D8B-F9D9-45D4-95F9-0894B03C6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7116-E407-4245-A6E3-46955F732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C83A4-137F-4353-BF18-76A3279A1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A5FE9-143A-4792-AEDF-4AB96E59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F155B-F8F3-41F7-B121-8D644CF2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14D40-A41B-4326-A523-520D618C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5FB64-9A49-42F1-AA02-12B80DAFA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0DE06-92ED-425A-B5A7-18D98BE83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7C7C0-49AE-40CB-B0DE-752372369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16BE6-E1FE-483D-997F-780352945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625D7-9BB9-4CFF-BB1E-9FCFE5E38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04E24-5EDA-44CF-9AFD-717C0D3A2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859C-8CD6-4817-BA31-715712704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87841-AB64-4C96-9695-F52A29456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9EFFE-840E-4D8C-B9BD-2414A3954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E990E-8A12-4D76-8151-AF307C5A2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F24B8-36BF-4BC5-BE57-352F423B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51965-216E-4C6C-AD17-34C6BA98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CBBFD-D8B6-4115-BC4D-1ACA38B8A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6EE27-1006-4E12-A8D9-FA99E284B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1939C-35C4-4C20-B7D8-7307D353B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7E8BE-B3ED-4E91-A907-34C021E15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22745-AAE8-4F74-A5E2-A48E12761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1540-F6F3-4C83-A65A-CDE672238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E7B12-43E7-4035-8A8F-3A7A60AF3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F36E8-B088-4D0E-B9E2-F3B8E75B9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97E20A-482C-4523-A048-FD5CB2DC4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5ABEC-B160-428F-953C-16ECA8A4B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76463-2C2A-463B-81D3-075AD2A5B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837F3-DA12-4A3A-B947-7E814A5D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1E213-00DE-47FC-8852-7D63798A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D518E-E6B6-4B74-953C-8CE56588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5D7C4-022C-490A-B16D-1B3C61CE9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CDFE6-B73B-4762-BE2A-4F3623DBA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1C1B-5A23-4839-9EF6-C253D68E1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39C8B-7D51-426C-A99A-26FEE30A5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FE94F-ACB7-4B83-B79B-B3D096592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7F55B-388B-49AA-9055-2F498EBDE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580B2-36B9-4E7A-BF92-8AE2B920B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5AA1B-0028-469C-BF33-5BE3B4FA2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93EB7-C993-4032-A168-F74F6EF52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B96E6-21E2-4FCB-8EE6-56B8F92E9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C5665-8FCC-40C1-99E6-C6F5D84F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FD46B-40F5-44F1-B311-6A34BE30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2256A-B7F5-4E1B-BDD6-6CB4D30F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BB7C-D12D-49CB-AE75-6620E305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F7C53C-861E-44D3-B147-D8B7F63B1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B88552-8723-4DDD-B368-BFE425275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E41D28-D2F0-485E-87C1-3F4F70533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8C6C12-113E-453D-91B3-092E461E5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E834A-CED3-49E1-B140-C6D46DB85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7C284D-6CD6-4EF3-BF2E-6E563AC44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15FA38-9DF6-49F6-B848-FD177865D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D93EE-E5E5-49C8-952C-EDB384315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2F042D-ED15-41DE-B865-6140B5F41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94D2A-212B-4620-BCA8-19D46757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B48B-0D83-48DF-9BBF-A8E3284B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259622-52A6-4E55-B573-ECB61011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54AAA3-2336-41D8-B616-9BF5300C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3CF13-D5CC-4A93-8E7F-F107663CD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F3FB73-420A-4172-B0F1-6B7114848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26778-E043-4093-B615-9CDFA4128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D459-86AF-4BE2-B568-CD77FD634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56517-8130-4AC0-A825-0F132436031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B00CF-3D6D-42F4-A07A-7C4D31E7078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EC2CE-9EC5-402F-B086-08C34DDE3CB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E185E-D1EC-4B29-920A-4DD5C0AE01A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3ADDE-B98A-44B8-A8F9-8050EBCBB10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54CF0-A560-4B8E-A6A2-1366FE116D7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2F022-8213-4F8E-B317-BF288E3EBBD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714640" y="2214360"/>
            <a:ext cx="3071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572314"/>
                </a:solidFill>
                <a:latin typeface="Corbel"/>
              </a:rPr>
              <a:t>Методический семинар</a:t>
            </a:r>
            <a:br>
              <a:rPr sz="1900"/>
            </a:br>
            <a:br>
              <a:rPr sz="1900"/>
            </a:br>
            <a:br>
              <a:rPr sz="1900"/>
            </a:br>
            <a:r>
              <a:rPr b="1" lang="ru-RU" sz="1900" spc="-1" strike="noStrike">
                <a:solidFill>
                  <a:srgbClr val="c00000"/>
                </a:solidFill>
                <a:latin typeface="Arial Black"/>
              </a:rPr>
              <a:t>НЕДЕЛЯ КУБАНОВЕДЕНИЯ </a:t>
            </a:r>
            <a:br>
              <a:rPr sz="1900"/>
            </a:br>
            <a:r>
              <a:rPr b="1" lang="ru-RU" sz="1900" spc="-1" strike="noStrike">
                <a:solidFill>
                  <a:srgbClr val="c00000"/>
                </a:solidFill>
                <a:latin typeface="Arial Black"/>
              </a:rPr>
              <a:t>В НАЧАЛЬНОЙ ШКОЛЕ</a:t>
            </a:r>
            <a:endParaRPr b="0" lang="en-US" sz="1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7720" y="4800240"/>
            <a:ext cx="4419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orbel"/>
              </a:rPr>
              <a:t>Учитель начальных классов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orbel"/>
              </a:rPr>
              <a:t>Василенко Н.А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Заголовок 1"/>
          <p:cNvSpPr/>
          <p:nvPr/>
        </p:nvSpPr>
        <p:spPr>
          <a:xfrm>
            <a:off x="214200" y="142920"/>
            <a:ext cx="85726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cc0000"/>
                </a:solidFill>
                <a:latin typeface="Corbel"/>
              </a:rPr>
              <a:t>Муниципальный этап краевого конкурса «Учитель года Кубани 2011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6" descr="C:\Documents and Settings\Учитель\Мои документы\10x15 учителя\IMG_2674.jpg"/>
          <p:cNvPicPr/>
          <p:nvPr/>
        </p:nvPicPr>
        <p:blipFill>
          <a:blip r:embed="rId1"/>
          <a:stretch/>
        </p:blipFill>
        <p:spPr>
          <a:xfrm>
            <a:off x="1714680" y="1071720"/>
            <a:ext cx="255096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Заголовок 1"/>
          <p:cNvSpPr/>
          <p:nvPr/>
        </p:nvSpPr>
        <p:spPr>
          <a:xfrm>
            <a:off x="1295280" y="189000"/>
            <a:ext cx="721548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572314"/>
                </a:solidFill>
                <a:latin typeface="Arial"/>
              </a:rPr>
              <a:t>п</a:t>
            </a:r>
            <a:r>
              <a:rPr b="0" lang="ru-RU" sz="3300" spc="-1" strike="noStrike">
                <a:solidFill>
                  <a:srgbClr val="572314"/>
                </a:solidFill>
                <a:latin typeface="Corbel"/>
              </a:rPr>
              <a:t>ятница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 Black"/>
                <a:ea typeface="Arial"/>
              </a:rPr>
              <a:t> </a:t>
            </a:r>
            <a:r>
              <a:rPr b="1" lang="ru-RU" sz="3200" spc="-1" strike="noStrike">
                <a:solidFill>
                  <a:srgbClr val="cc0000"/>
                </a:solidFill>
                <a:latin typeface="Arial Black"/>
                <a:ea typeface="Arial"/>
              </a:rPr>
              <a:t>«</a:t>
            </a:r>
            <a:r>
              <a:rPr b="1" lang="ru-RU" sz="3500" spc="-1" strike="noStrike">
                <a:solidFill>
                  <a:srgbClr val="cc0000"/>
                </a:solidFill>
                <a:latin typeface="Arial Black"/>
                <a:ea typeface="Arial"/>
              </a:rPr>
              <a:t>ПО ПАМЯТНЫМ МЕСТАМ КУБАНИ»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5" descr="C:\Documents and Settings\Учитель\Рабочий стол\василенко дети\SDC10103.JPG"/>
          <p:cNvPicPr/>
          <p:nvPr/>
        </p:nvPicPr>
        <p:blipFill>
          <a:blip r:embed="rId1"/>
          <a:stretch/>
        </p:blipFill>
        <p:spPr>
          <a:xfrm>
            <a:off x="1143000" y="1557360"/>
            <a:ext cx="4519440" cy="36180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6" descr="C:\Documents and Settings\Учитель\Рабочий стол\василенко дети\SDC10106.JPG"/>
          <p:cNvPicPr/>
          <p:nvPr/>
        </p:nvPicPr>
        <p:blipFill>
          <a:blip r:embed="rId2"/>
          <a:stretch/>
        </p:blipFill>
        <p:spPr>
          <a:xfrm>
            <a:off x="5857920" y="1557360"/>
            <a:ext cx="2817720" cy="3586320"/>
          </a:xfrm>
          <a:prstGeom prst="rect">
            <a:avLst/>
          </a:prstGeom>
          <a:ln w="0">
            <a:noFill/>
          </a:ln>
        </p:spPr>
      </p:pic>
      <p:sp>
        <p:nvSpPr>
          <p:cNvPr id="357" name="Text Box 6"/>
          <p:cNvSpPr/>
          <p:nvPr/>
        </p:nvSpPr>
        <p:spPr>
          <a:xfrm>
            <a:off x="2117160" y="5689440"/>
            <a:ext cx="40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Викторины, олимпиады, конкур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Заголовок 1"/>
          <p:cNvSpPr/>
          <p:nvPr/>
        </p:nvSpPr>
        <p:spPr>
          <a:xfrm>
            <a:off x="1295280" y="189000"/>
            <a:ext cx="721548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Arial"/>
              </a:rPr>
              <a:t>с</a:t>
            </a: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уббота</a:t>
            </a:r>
            <a:br>
              <a:rPr sz="2900"/>
            </a:br>
            <a:r>
              <a:rPr b="0" lang="ru-RU" sz="2900" spc="-1" strike="noStrike">
                <a:solidFill>
                  <a:srgbClr val="c00000"/>
                </a:solidFill>
                <a:latin typeface="Arial Black"/>
              </a:rPr>
              <a:t>ДЕНЬ КУБАНСКОГО КАЗАЧЕСТВА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6" descr=""/>
          <p:cNvPicPr/>
          <p:nvPr/>
        </p:nvPicPr>
        <p:blipFill>
          <a:blip r:embed="rId1"/>
          <a:stretch/>
        </p:blipFill>
        <p:spPr>
          <a:xfrm>
            <a:off x="1187280" y="1268280"/>
            <a:ext cx="3335400" cy="25923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6" descr=""/>
          <p:cNvPicPr/>
          <p:nvPr/>
        </p:nvPicPr>
        <p:blipFill>
          <a:blip r:embed="rId2"/>
          <a:stretch/>
        </p:blipFill>
        <p:spPr>
          <a:xfrm>
            <a:off x="4859280" y="1268280"/>
            <a:ext cx="3745080" cy="25923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6" descr="E:\Казаки на празднике\S6001888.JPG"/>
          <p:cNvPicPr/>
          <p:nvPr/>
        </p:nvPicPr>
        <p:blipFill>
          <a:blip r:embed="rId3"/>
          <a:stretch/>
        </p:blipFill>
        <p:spPr>
          <a:xfrm>
            <a:off x="1187280" y="4076640"/>
            <a:ext cx="3384720" cy="252108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7"/>
          <p:cNvSpPr/>
          <p:nvPr/>
        </p:nvSpPr>
        <p:spPr>
          <a:xfrm>
            <a:off x="5703840" y="4149720"/>
            <a:ext cx="272412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0000"/>
                </a:solidFill>
                <a:latin typeface="Arial Black"/>
              </a:rPr>
              <a:t>Песни, танцы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0000"/>
                </a:solidFill>
                <a:latin typeface="Arial Black"/>
              </a:rPr>
              <a:t>выступление учащихся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0000"/>
                </a:solidFill>
                <a:latin typeface="Arial Black"/>
              </a:rPr>
              <a:t>казачьего класс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331640" y="-387720"/>
            <a:ext cx="7381800" cy="15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c0000"/>
                </a:solidFill>
                <a:latin typeface="Arial Black"/>
              </a:rPr>
              <a:t>Итоги недел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1332000" y="692280"/>
            <a:ext cx="7524720" cy="51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ился кругозор учащихся начальной школ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изировались знания, полученные ране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ами были созданы  условия  для всестороннего развития  учащихся начальных классов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ение структур сельского социума в образовательно- воспитательный процесс способствовало социализации личности младших  школьников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Цели недели кубановеден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3" name="Содержимое 4" descr=""/>
          <p:cNvPicPr/>
          <p:nvPr/>
        </p:nvPicPr>
        <p:blipFill>
          <a:blip r:embed="rId1"/>
          <a:stretch/>
        </p:blipFill>
        <p:spPr>
          <a:xfrm>
            <a:off x="1427040" y="1432080"/>
            <a:ext cx="751536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ЛАН НЕДЕЛ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5" name="Содержимое 3" descr=""/>
          <p:cNvPicPr/>
          <p:nvPr/>
        </p:nvPicPr>
        <p:blipFill>
          <a:blip r:embed="rId1"/>
          <a:stretch/>
        </p:blipFill>
        <p:spPr>
          <a:xfrm>
            <a:off x="1407960" y="1414440"/>
            <a:ext cx="753444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Заголовок 1"/>
          <p:cNvSpPr/>
          <p:nvPr/>
        </p:nvSpPr>
        <p:spPr>
          <a:xfrm>
            <a:off x="1143000" y="357120"/>
            <a:ext cx="72151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572314"/>
                </a:solidFill>
                <a:latin typeface="Corbel"/>
              </a:rPr>
              <a:t>понедельник</a:t>
            </a:r>
            <a:br>
              <a:rPr sz="3500"/>
            </a:br>
            <a:r>
              <a:rPr b="0" lang="ru-RU" sz="3500" spc="-1" strike="noStrike">
                <a:solidFill>
                  <a:srgbClr val="c00000"/>
                </a:solidFill>
                <a:latin typeface="Arial Black"/>
              </a:rPr>
              <a:t>МОЯ МАЛАЯ РОДИНА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3" descr="F:\василенко\S6001579.JPG"/>
          <p:cNvPicPr/>
          <p:nvPr/>
        </p:nvPicPr>
        <p:blipFill>
          <a:blip r:embed="rId1"/>
          <a:stretch/>
        </p:blipFill>
        <p:spPr>
          <a:xfrm>
            <a:off x="5072040" y="1571760"/>
            <a:ext cx="3714840" cy="2786040"/>
          </a:xfrm>
          <a:prstGeom prst="rect">
            <a:avLst/>
          </a:prstGeom>
          <a:ln w="0">
            <a:noFill/>
          </a:ln>
        </p:spPr>
      </p:pic>
      <p:sp>
        <p:nvSpPr>
          <p:cNvPr id="328" name="Заголовок 1"/>
          <p:cNvSpPr/>
          <p:nvPr/>
        </p:nvSpPr>
        <p:spPr>
          <a:xfrm>
            <a:off x="1285920" y="4643280"/>
            <a:ext cx="7215120" cy="10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r>
              <a:rPr b="0" lang="ru-RU" sz="2300" spc="-1" strike="noStrike">
                <a:solidFill>
                  <a:srgbClr val="ff0000"/>
                </a:solidFill>
                <a:latin typeface="Arial Black"/>
              </a:rPr>
              <a:t>Тематическая линейка, беседы, классные часы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4" descr="D:\Архив\Мои рисунки\Мой класс2\S6001616.JPG"/>
          <p:cNvPicPr/>
          <p:nvPr/>
        </p:nvPicPr>
        <p:blipFill>
          <a:blip r:embed="rId2"/>
          <a:stretch/>
        </p:blipFill>
        <p:spPr>
          <a:xfrm>
            <a:off x="1143000" y="1571760"/>
            <a:ext cx="37148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Заголовок 1"/>
          <p:cNvSpPr/>
          <p:nvPr/>
        </p:nvSpPr>
        <p:spPr>
          <a:xfrm>
            <a:off x="1143000" y="357120"/>
            <a:ext cx="72151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Заголовок 1"/>
          <p:cNvSpPr/>
          <p:nvPr/>
        </p:nvSpPr>
        <p:spPr>
          <a:xfrm>
            <a:off x="1295280" y="260280"/>
            <a:ext cx="7215480" cy="12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вторник</a:t>
            </a:r>
            <a:br>
              <a:rPr sz="3900"/>
            </a:br>
            <a:r>
              <a:rPr b="0" lang="ru-RU" sz="3900" spc="-1" strike="noStrike">
                <a:solidFill>
                  <a:srgbClr val="c00000"/>
                </a:solidFill>
                <a:latin typeface="Arial Black"/>
              </a:rPr>
              <a:t>КУБАНЬ В ДРЕВНОСТИ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4" descr="F:\DSC00176.JPG"/>
          <p:cNvPicPr/>
          <p:nvPr/>
        </p:nvPicPr>
        <p:blipFill>
          <a:blip r:embed="rId1"/>
          <a:stretch/>
        </p:blipFill>
        <p:spPr>
          <a:xfrm>
            <a:off x="4859280" y="1844640"/>
            <a:ext cx="4105440" cy="3597480"/>
          </a:xfrm>
          <a:prstGeom prst="rect">
            <a:avLst/>
          </a:prstGeom>
          <a:ln w="0">
            <a:noFill/>
          </a:ln>
        </p:spPr>
      </p:pic>
      <p:sp>
        <p:nvSpPr>
          <p:cNvPr id="333" name="Заголовок 1"/>
          <p:cNvSpPr/>
          <p:nvPr/>
        </p:nvSpPr>
        <p:spPr>
          <a:xfrm>
            <a:off x="1000080" y="5373720"/>
            <a:ext cx="72151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r>
              <a:rPr b="0" lang="ru-RU" sz="1900" spc="-1" strike="noStrike">
                <a:solidFill>
                  <a:srgbClr val="ff0000"/>
                </a:solidFill>
                <a:latin typeface="Arial Black"/>
              </a:rPr>
              <a:t>Посещение школьного музея, археологического музея «Горгиппия» в городе Анап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4" descr="C:\Documents and Settings\Учитель\Мои документы\3а музей\SDC19859.JPG"/>
          <p:cNvPicPr/>
          <p:nvPr/>
        </p:nvPicPr>
        <p:blipFill>
          <a:blip r:embed="rId2"/>
          <a:stretch/>
        </p:blipFill>
        <p:spPr>
          <a:xfrm>
            <a:off x="900000" y="1844640"/>
            <a:ext cx="3816360" cy="35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F:\василенко\SDC14373.JPG"/>
          <p:cNvPicPr/>
          <p:nvPr/>
        </p:nvPicPr>
        <p:blipFill>
          <a:blip r:embed="rId1"/>
          <a:stretch/>
        </p:blipFill>
        <p:spPr>
          <a:xfrm>
            <a:off x="1187280" y="692280"/>
            <a:ext cx="3632400" cy="280800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2" descr="C:\Documents and Settings\Учитель\Рабочий стол\SDC19869.JPG"/>
          <p:cNvPicPr/>
          <p:nvPr/>
        </p:nvPicPr>
        <p:blipFill>
          <a:blip r:embed="rId2"/>
          <a:stretch/>
        </p:blipFill>
        <p:spPr>
          <a:xfrm>
            <a:off x="5072040" y="692280"/>
            <a:ext cx="3603600" cy="2808000"/>
          </a:xfrm>
          <a:prstGeom prst="rect">
            <a:avLst/>
          </a:prstGeom>
          <a:ln w="0">
            <a:noFill/>
          </a:ln>
        </p:spPr>
      </p:pic>
      <p:sp>
        <p:nvSpPr>
          <p:cNvPr id="337" name="Заголовок 1"/>
          <p:cNvSpPr/>
          <p:nvPr/>
        </p:nvSpPr>
        <p:spPr>
          <a:xfrm>
            <a:off x="1295280" y="189000"/>
            <a:ext cx="721548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572314"/>
                </a:solidFill>
                <a:latin typeface="Corbel"/>
              </a:rPr>
              <a:t>Вторник</a:t>
            </a: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5" descr="F:\василенко\Изображение 030.jpg"/>
          <p:cNvPicPr/>
          <p:nvPr/>
        </p:nvPicPr>
        <p:blipFill>
          <a:blip r:embed="rId3"/>
          <a:stretch/>
        </p:blipFill>
        <p:spPr>
          <a:xfrm>
            <a:off x="2916360" y="3716280"/>
            <a:ext cx="3887640" cy="259236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7"/>
          <p:cNvSpPr/>
          <p:nvPr/>
        </p:nvSpPr>
        <p:spPr>
          <a:xfrm>
            <a:off x="1476360" y="6276960"/>
            <a:ext cx="77248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0000"/>
                </a:solidFill>
                <a:latin typeface="Arial Black"/>
              </a:rPr>
              <a:t>Посещение краеведческого музея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Заголовок 1"/>
          <p:cNvSpPr/>
          <p:nvPr/>
        </p:nvSpPr>
        <p:spPr>
          <a:xfrm>
            <a:off x="1295280" y="189000"/>
            <a:ext cx="721548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572314"/>
                </a:solidFill>
                <a:latin typeface="Arial"/>
              </a:rPr>
              <a:t>с</a:t>
            </a:r>
            <a:r>
              <a:rPr b="0" lang="ru-RU" sz="3500" spc="-1" strike="noStrike">
                <a:solidFill>
                  <a:srgbClr val="572314"/>
                </a:solidFill>
                <a:latin typeface="Corbel"/>
              </a:rPr>
              <a:t>реда</a:t>
            </a:r>
            <a:br>
              <a:rPr sz="3500"/>
            </a:br>
            <a:r>
              <a:rPr b="0" lang="ru-RU" sz="3500" spc="-1" strike="noStrike">
                <a:solidFill>
                  <a:srgbClr val="c00000"/>
                </a:solidFill>
                <a:latin typeface="Arial Black"/>
              </a:rPr>
              <a:t>БЫТ КУБАНСКОЙ СЕМЬИ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Заголовок 1"/>
          <p:cNvSpPr/>
          <p:nvPr/>
        </p:nvSpPr>
        <p:spPr>
          <a:xfrm>
            <a:off x="1714680" y="6143760"/>
            <a:ext cx="54291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0000"/>
                </a:solidFill>
                <a:latin typeface="Arial Black"/>
              </a:rPr>
              <a:t>Выставка творческих рабо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7" descr="2"/>
          <p:cNvPicPr/>
          <p:nvPr/>
        </p:nvPicPr>
        <p:blipFill>
          <a:blip r:embed="rId1"/>
          <a:stretch/>
        </p:blipFill>
        <p:spPr>
          <a:xfrm>
            <a:off x="4714920" y="1197000"/>
            <a:ext cx="3529080" cy="25272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" descr="C:\Documents and Settings\Учитель\Мои документы\поделки из яиц\SDC19837.JPG"/>
          <p:cNvPicPr/>
          <p:nvPr/>
        </p:nvPicPr>
        <p:blipFill>
          <a:blip r:embed="rId2"/>
          <a:stretch/>
        </p:blipFill>
        <p:spPr>
          <a:xfrm>
            <a:off x="1042920" y="1197000"/>
            <a:ext cx="3384720" cy="25351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9" descr="C:\Documents and Settings\Учитель\Рабочий стол\василенко дети\SDC10040.JPG"/>
          <p:cNvPicPr/>
          <p:nvPr/>
        </p:nvPicPr>
        <p:blipFill>
          <a:blip r:embed="rId3"/>
          <a:stretch/>
        </p:blipFill>
        <p:spPr>
          <a:xfrm>
            <a:off x="1042920" y="3860640"/>
            <a:ext cx="3359160" cy="23050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3" descr="D:\Архив\Мои рисунки\Поделки\работа с талашом\поделки2\SDC15178.JPG"/>
          <p:cNvPicPr/>
          <p:nvPr/>
        </p:nvPicPr>
        <p:blipFill>
          <a:blip r:embed="rId4"/>
          <a:stretch/>
        </p:blipFill>
        <p:spPr>
          <a:xfrm>
            <a:off x="4714920" y="3929040"/>
            <a:ext cx="1730160" cy="22860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2" descr="D:\Архив\Мои рисунки\Поделки\работа с талашом\поделки2\SDC15176.JPG"/>
          <p:cNvPicPr/>
          <p:nvPr/>
        </p:nvPicPr>
        <p:blipFill>
          <a:blip r:embed="rId5"/>
          <a:stretch/>
        </p:blipFill>
        <p:spPr>
          <a:xfrm>
            <a:off x="6572160" y="3929040"/>
            <a:ext cx="1714680" cy="22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2" descr="C:\Documents and Settings\Учитель\Рабочий стол\василенко дети\SDC10102.JPG"/>
          <p:cNvPicPr/>
          <p:nvPr/>
        </p:nvPicPr>
        <p:blipFill>
          <a:blip r:embed="rId1"/>
          <a:stretch/>
        </p:blipFill>
        <p:spPr>
          <a:xfrm>
            <a:off x="1231920" y="1000080"/>
            <a:ext cx="7288200" cy="5000760"/>
          </a:xfrm>
          <a:prstGeom prst="rect">
            <a:avLst/>
          </a:prstGeom>
          <a:ln w="0">
            <a:noFill/>
          </a:ln>
        </p:spPr>
      </p:pic>
      <p:sp>
        <p:nvSpPr>
          <p:cNvPr id="348" name="Заголовок 1"/>
          <p:cNvSpPr/>
          <p:nvPr/>
        </p:nvSpPr>
        <p:spPr>
          <a:xfrm>
            <a:off x="1357200" y="0"/>
            <a:ext cx="72154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572314"/>
                </a:solidFill>
                <a:latin typeface="Arial"/>
              </a:rPr>
              <a:t>с</a:t>
            </a:r>
            <a:r>
              <a:rPr b="0" lang="ru-RU" sz="3500" spc="-1" strike="noStrike">
                <a:solidFill>
                  <a:srgbClr val="572314"/>
                </a:solidFill>
                <a:latin typeface="Corbel"/>
              </a:rPr>
              <a:t>реда</a:t>
            </a:r>
            <a:br>
              <a:rPr sz="3500"/>
            </a:br>
            <a:r>
              <a:rPr b="0" lang="ru-RU" sz="3500" spc="-1" strike="noStrike">
                <a:solidFill>
                  <a:srgbClr val="c00000"/>
                </a:solidFill>
                <a:latin typeface="Arial Black"/>
              </a:rPr>
              <a:t>БЫТ КУБАНСКОЙ СЕМЬИ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Заголовок 1"/>
          <p:cNvSpPr/>
          <p:nvPr/>
        </p:nvSpPr>
        <p:spPr>
          <a:xfrm>
            <a:off x="1714680" y="6143760"/>
            <a:ext cx="54291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0000"/>
                </a:solidFill>
                <a:latin typeface="Arial Black"/>
              </a:rPr>
              <a:t>Выставка  рисунков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Заголовок 1"/>
          <p:cNvSpPr/>
          <p:nvPr/>
        </p:nvSpPr>
        <p:spPr>
          <a:xfrm>
            <a:off x="1285920" y="260280"/>
            <a:ext cx="7224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Arial"/>
              </a:rPr>
              <a:t>ч</a:t>
            </a: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етверг</a:t>
            </a:r>
            <a:br>
              <a:rPr sz="3600"/>
            </a:br>
            <a:r>
              <a:rPr b="0" lang="ru-RU" sz="3500" spc="-1" strike="noStrike">
                <a:solidFill>
                  <a:srgbClr val="c00000"/>
                </a:solidFill>
                <a:latin typeface="Arial Black"/>
              </a:rPr>
              <a:t>ОТЛИЧНЫЕ ЛЮДИ,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c00000"/>
                </a:solidFill>
                <a:latin typeface="Arial Black"/>
              </a:rPr>
              <a:t>ПРОСЛАВЛЕННЫЙ КРАЙ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Заголовок 1"/>
          <p:cNvSpPr/>
          <p:nvPr/>
        </p:nvSpPr>
        <p:spPr>
          <a:xfrm>
            <a:off x="1285920" y="5734080"/>
            <a:ext cx="721512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0000"/>
                </a:solidFill>
                <a:latin typeface="Arial Black"/>
              </a:rPr>
              <a:t>Конкурс художественного чтения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ru-RU" sz="2300" spc="-1" strike="noStrike">
                <a:solidFill>
                  <a:srgbClr val="ff0000"/>
                </a:solidFill>
                <a:latin typeface="Arial Black"/>
              </a:rPr>
              <a:t>произведений кубанских авторов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6" descr="C:\Documents and Settings\Учитель\Рабочий стол\василенко дети\SDC10046.JPG"/>
          <p:cNvPicPr/>
          <p:nvPr/>
        </p:nvPicPr>
        <p:blipFill>
          <a:blip r:embed="rId1"/>
          <a:stretch/>
        </p:blipFill>
        <p:spPr>
          <a:xfrm>
            <a:off x="1332000" y="1700280"/>
            <a:ext cx="2741400" cy="35290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7" descr="C:\Documents and Settings\Учитель\Рабочий стол\василенко дети\SDC10049.JPG"/>
          <p:cNvPicPr/>
          <p:nvPr/>
        </p:nvPicPr>
        <p:blipFill>
          <a:blip r:embed="rId2"/>
          <a:stretch/>
        </p:blipFill>
        <p:spPr>
          <a:xfrm>
            <a:off x="4143240" y="1700280"/>
            <a:ext cx="45324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7T10:36:21Z</dcterms:created>
  <dc:creator>Учитель</dc:creator>
  <dc:description/>
  <dc:language>en-US</dc:language>
  <cp:lastModifiedBy>Учитель</cp:lastModifiedBy>
  <dcterms:modified xsi:type="dcterms:W3CDTF">2011-04-12T05:53:25Z</dcterms:modified>
  <cp:revision>43</cp:revision>
  <dc:subject/>
  <dc:title>Неделя кубановедения в  МОУ СОШ № 9 МО г-к Анапа</dc:title>
</cp:coreProperties>
</file>