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AE2-6C97-430A-8D2F-F296836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EB1-EFFF-42E1-87E1-DAFF8C98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0CB-A11D-46DF-A74A-2ADED2D3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56C-61C7-4522-BA3C-AFF5C845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371-24D2-468E-8C3D-7E0FAD1C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C1AC-CA5A-41BC-A173-D4593FA9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267-7F94-44C8-90E4-E241D711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5E94-AFB1-4F38-BF67-8B302F49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567A-85D3-485B-8F64-20B034F9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B394-0610-47A9-974B-C8743F9E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39F1-7E17-4333-9D0E-36A15FB1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1C5-5264-4C0D-8C71-F2FA6800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D756-FB32-497A-84EE-50D2E856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21C8-0F2C-42F1-B77E-3241089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F4AF-51C9-46AC-B2AB-3DB098BC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0A01-880B-4CC5-A594-9888ACE0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9F49-E299-4576-9A1B-F358668C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11A-1CCA-4527-A2AF-7261AE5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4C9-DC6E-493B-B655-2E99745D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864-9C9D-4C22-B07D-B692015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2C0-72A1-4757-8FBB-59CAED11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DB8-FEB1-4B16-BF4C-C3BCFFB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539-BFC9-4F9B-8623-EAB3D6C3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6A5-F10C-4092-A33F-5EC6E5F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454-232F-4B31-897B-22EAA476BD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7FF3-6A50-4EBF-9591-026D87844C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49429/2008042923523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Arial Unicode MS"/>
              </a:rPr>
              <a:t>Муниципальное обще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ee941c"/>
                </a:solidFill>
                <a:latin typeface="Arial Unicode MS"/>
              </a:rPr>
              <a:t>«Средняя общеобразовательная школа №9»</a:t>
            </a:r>
            <a:br>
              <a:rPr sz="2000"/>
            </a:br>
            <a:r>
              <a:rPr b="0" lang="ru-RU" sz="2000" spc="-1" strike="noStrike">
                <a:solidFill>
                  <a:srgbClr val="ee941c"/>
                </a:solidFill>
                <a:latin typeface="Arial Unicode MS"/>
              </a:rPr>
              <a:t>г-к Анапа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941c"/>
                </a:solidFill>
                <a:latin typeface="Arial Unicode MS"/>
              </a:rPr>
              <a:t>С огнем шутить нельзя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08720" y="6207120"/>
            <a:ext cx="3635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941c"/>
                </a:solidFill>
                <a:latin typeface="Arial Unicode MS"/>
              </a:rPr>
              <a:t>Учитель начальных классов Василенко Н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Картинка 84 из 5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421000"/>
            <a:ext cx="540072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941c"/>
                </a:solidFill>
                <a:latin typeface="Arial Unicode MS"/>
              </a:rPr>
              <a:t>Сушить одежду и обувь на обогревателях опасно,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 Unicode MS"/>
              </a:rPr>
              <a:t> Дети должны знать об этом прекрасно!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7" descr="3"/>
          <p:cNvPicPr/>
          <p:nvPr/>
        </p:nvPicPr>
        <p:blipFill>
          <a:blip r:embed="rId1"/>
          <a:stretch/>
        </p:blipFill>
        <p:spPr>
          <a:xfrm>
            <a:off x="826920" y="1844640"/>
            <a:ext cx="7490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Основные действия при пожаре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6" descr="Рисунок 1"/>
          <p:cNvPicPr/>
          <p:nvPr/>
        </p:nvPicPr>
        <p:blipFill>
          <a:blip r:embed="rId1"/>
          <a:stretch/>
        </p:blipFill>
        <p:spPr>
          <a:xfrm>
            <a:off x="395280" y="907920"/>
            <a:ext cx="3297240" cy="2135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333333333333"/>
          <p:cNvPicPr/>
          <p:nvPr/>
        </p:nvPicPr>
        <p:blipFill>
          <a:blip r:embed="rId2"/>
          <a:stretch/>
        </p:blipFill>
        <p:spPr>
          <a:xfrm>
            <a:off x="250920" y="4005360"/>
            <a:ext cx="3232080" cy="213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Безымянный1111111111"/>
          <p:cNvPicPr/>
          <p:nvPr/>
        </p:nvPicPr>
        <p:blipFill>
          <a:blip r:embed="rId3"/>
          <a:stretch/>
        </p:blipFill>
        <p:spPr>
          <a:xfrm>
            <a:off x="4500720" y="1413000"/>
            <a:ext cx="4392360" cy="360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30686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941c"/>
                </a:solidFill>
                <a:latin typeface="Arial"/>
              </a:rPr>
              <a:t>Намочить одеяло или простынь,  надо залезть  под не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6165720"/>
            <a:ext cx="32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941c"/>
                </a:solidFill>
                <a:latin typeface="Arial"/>
              </a:rPr>
              <a:t>Намочить платок или марлю и дышать через не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177336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03640" y="5373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941c"/>
                </a:solidFill>
                <a:latin typeface="Arial"/>
              </a:rPr>
              <a:t>Чтобы не сбиться с ориентира в задымленном помещении, нужно идти по стене на ощупь, всегда придерживаясь одной и той же ру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98560" y="691920"/>
            <a:ext cx="5545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При пожаре, при пожаре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Знает каждый гражданин: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При пожаре, при пожаре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Набирают «ноль – один».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И вот машины красные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Спешат в места опасные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89440" cy="3657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11640" y="4292640"/>
            <a:ext cx="4751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2920" y="243504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Если вдруг беда случится,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 Где-то что-то загорится, 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Там пожарный нужен срочно.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Он погасит, - это то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4724280" cy="579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0360" y="-360"/>
            <a:ext cx="540036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Ребята! Помните о том,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Что нельзя шутить с огнём.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Кто с огнём неосторожен,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У того пожар возможен. 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941c"/>
                </a:solidFill>
                <a:latin typeface="Arial Unicode MS"/>
              </a:rPr>
              <a:t>Огонь – Друг!</a:t>
            </a:r>
            <a:endParaRPr b="0" lang="en-US" sz="5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032360" cy="2579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249800" cy="2592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4013280" cy="25210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4246560" cy="25178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941c"/>
                </a:solidFill>
                <a:latin typeface="Arial"/>
              </a:rPr>
              <a:t>Огонь – Враг!</a:t>
            </a:r>
            <a:endParaRPr b="0" lang="en-US" sz="5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321440" cy="2520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175280" cy="2520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4322880" cy="2519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4178520" cy="2519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5219640" cy="4967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356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e941c"/>
                </a:solidFill>
                <a:latin typeface="Arial"/>
              </a:rPr>
              <a:t>Младшим братьям и сестричкам</a:t>
            </a:r>
            <a:br>
              <a:rPr sz="2700"/>
            </a:br>
            <a:r>
              <a:rPr b="1" lang="en-US" sz="2700" spc="-1" strike="noStrike">
                <a:solidFill>
                  <a:srgbClr val="ee941c"/>
                </a:solidFill>
                <a:latin typeface="Arial"/>
              </a:rPr>
              <a:t>Наши дети говорят:</a:t>
            </a:r>
            <a:br>
              <a:rPr sz="2700"/>
            </a:br>
            <a:r>
              <a:rPr b="1" lang="en-US" sz="2700" spc="-1" strike="noStrike">
                <a:solidFill>
                  <a:srgbClr val="ee941c"/>
                </a:solidFill>
                <a:latin typeface="Arial"/>
              </a:rPr>
              <a:t>“Крепко помните, что спички—</a:t>
            </a:r>
            <a:br>
              <a:rPr sz="2700"/>
            </a:br>
            <a:r>
              <a:rPr b="1" lang="en-US" sz="2700" spc="-1" strike="noStrike">
                <a:solidFill>
                  <a:srgbClr val="ee941c"/>
                </a:solidFill>
                <a:latin typeface="Arial"/>
              </a:rPr>
              <a:t>Не игрушка для ребят</a:t>
            </a:r>
            <a:r>
              <a:rPr b="0" lang="en-US" sz="2700" spc="-1" strike="noStrike">
                <a:solidFill>
                  <a:srgbClr val="ee941c"/>
                </a:solidFill>
                <a:latin typeface="Arial"/>
              </a:rPr>
              <a:t>”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49600" y="-277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8383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Ростом спичка – невели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Не смотрите, что м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Это маленькая спи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Может сделать много з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Крепко помните, друз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Что с огнем шутить нельзя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9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3280" y="907920"/>
            <a:ext cx="414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Мы вчера ходили в лес,</a:t>
            </a:r>
            <a:br>
              <a:rPr sz="2800"/>
            </a:b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Ну а ночью он исчез.</a:t>
            </a:r>
            <a:br>
              <a:rPr sz="2800"/>
            </a:b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Так от нашего костра</a:t>
            </a:r>
            <a:br>
              <a:rPr sz="2800"/>
            </a:b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Целый лес сгорел дотла!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679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0070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Возле дома и сарая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 Разжигать огонь не смей!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Может быть беда большая </a:t>
            </a:r>
            <a:br>
              <a:rPr sz="2400"/>
            </a:b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Для построек и людей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7:48:00Z</dcterms:created>
  <dc:creator>Алина</dc:creator>
  <dc:description/>
  <dc:language>en-US</dc:language>
  <cp:lastModifiedBy>Алина</cp:lastModifiedBy>
  <dcterms:modified xsi:type="dcterms:W3CDTF">2011-02-23T20:08:57Z</dcterms:modified>
  <cp:revision>4</cp:revision>
  <dc:subject/>
  <dc:title>Муниципальное общеобразовательное учреждение  «Средняя общеобразовательная школа № 30» г. Старый Оскол </dc:title>
</cp:coreProperties>
</file>