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059-1628-4C84-AC83-E9425B8C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BE4-4DC0-41B8-ABE4-BB2C6022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47A-F669-4783-8314-298CA089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681-B5CC-4B24-BE81-F949FED7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A7F-A090-4D37-9A61-06571BA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FD5-B23B-4CFA-A5E2-D9F163E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3B0-02A2-4C3D-8AAD-0E037E3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87E-91E6-4426-869D-23B29ED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E2A-83C7-468F-81B6-39254762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5C9-B1F2-4BCA-813F-30F93D20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379-3EF7-433C-B1A6-CCA3396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C9C-79BF-4BC7-B1FC-9792C11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FE0-CD7A-4F19-B5FD-B154991B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 Black"/>
              </a:rPr>
              <a:t>УРОК-КОНФЕРЕН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900000" y="1197000"/>
            <a:ext cx="7417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"У" - серый или тыся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"ТАШ" - кам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187280" y="3429000"/>
            <a:ext cx="7417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тор УТАШ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48531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928800" y="1500120"/>
            <a:ext cx="655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ёлок   ВИНОГРАДНЫ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785880" y="3071880"/>
            <a:ext cx="71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ёлок   СУВОРОВО-ЧЕРКЕССКИЙ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857160" y="485784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тор УТАШ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622880" y="2143080"/>
            <a:ext cx="641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Black"/>
              </a:rPr>
              <a:t>«</a:t>
            </a: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confero</a:t>
            </a:r>
            <a:r>
              <a:rPr b="0" lang="ru-RU" sz="4800" spc="-1" strike="noStrike">
                <a:solidFill>
                  <a:srgbClr val="006600"/>
                </a:solidFill>
                <a:latin typeface="Arial Black"/>
              </a:rPr>
              <a:t>»(конфэро)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006600"/>
                </a:solidFill>
                <a:latin typeface="Arial Black"/>
              </a:rPr>
              <a:t>«собираю вместе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dArt 5" descr="Бумажный пакет"/>
          <p:cNvPicPr/>
          <p:nvPr/>
        </p:nvPicPr>
        <p:blipFill>
          <a:blip r:embed="rId1"/>
          <a:stretch/>
        </p:blipFill>
        <p:spPr>
          <a:xfrm>
            <a:off x="969840" y="542880"/>
            <a:ext cx="7802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Изображение 017"/>
          <p:cNvPicPr/>
          <p:nvPr/>
        </p:nvPicPr>
        <p:blipFill>
          <a:blip r:embed="rId1"/>
          <a:stretch/>
        </p:blipFill>
        <p:spPr>
          <a:xfrm>
            <a:off x="571680" y="1104840"/>
            <a:ext cx="8072280" cy="575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инистративная карта Краснода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та города-курорта Ан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6675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28800" y="745560"/>
            <a:ext cx="71434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кко, Су – Псе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Джемете, Гайкодзор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тагаевская – река Гостагайк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жиг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549360"/>
            <a:ext cx="6629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АНАГОРА - возвышенная гор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979640" y="1557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ГОРГИППИЯ- город грозного всад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24000" y="2637000"/>
            <a:ext cx="655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МАПА,  БУГУР-КАЛ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714240" y="3857760"/>
            <a:ext cx="79599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санскрита: "АНА" - основа, дыхание, "ПА" - пить,вод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НАПА  -  ОСНОВА ВО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539640" y="907920"/>
            <a:ext cx="756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аул     СЕН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гряда  СЕНАТ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река    СЕНАП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476360" y="3573360"/>
            <a:ext cx="655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ёлок   ВИНОГРАДНЫ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042920" y="1773360"/>
            <a:ext cx="712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дут  СУВОРОВС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042920" y="765000"/>
            <a:ext cx="71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ТРАМТУК – земля  Хатрамов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1258920" y="2852640"/>
            <a:ext cx="712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ВОРОВО-ЧЕРКЕССКИЙ эскадр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900000" y="4221000"/>
            <a:ext cx="712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ёлок   СУВОРОВО-ЧЕРКЕССКИЙ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928800" y="4214880"/>
            <a:ext cx="71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ёлок   СУВОРОВО-ЧЕРКЕССКИЙ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8:08Z</dcterms:created>
  <dc:creator>SamLab.ws</dc:creator>
  <dc:description/>
  <dc:language>en-US</dc:language>
  <cp:lastModifiedBy>Учитель</cp:lastModifiedBy>
  <dcterms:modified xsi:type="dcterms:W3CDTF">2011-04-12T19:21:38Z</dcterms:modified>
  <cp:revision>21</cp:revision>
  <dc:subject/>
  <dc:title>Слайд 1</dc:title>
</cp:coreProperties>
</file>